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5B1-9C18-430E-9228-2F826DC6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E52-2BE4-44E3-A688-284A9C34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EFC-B6CE-4AC2-B08A-48BED15E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469-F48A-4117-8408-A59730DE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243-F5A5-4CA9-A675-DFDFE8B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777-772F-45B1-8889-9312A709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46F-40E9-4263-BBF8-0779943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54F-1E5F-4836-9C11-89B64439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91A-E72A-4166-BAFF-F1E053A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15F-8FF9-4D56-A163-219B602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B7A-DE14-49F3-8DE6-A31B9D7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67B-B762-458F-B46F-73C95E9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CFA0-156E-41FA-A78D-303033DF151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_x005F_x0000_s0"/>
          <p:cNvSpPr/>
          <p:nvPr/>
        </p:nvSpPr>
        <p:spPr>
          <a:xfrm>
            <a:off x="177120" y="407880"/>
            <a:ext cx="29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c008c"/>
                </a:solidFill>
                <a:latin typeface="Arial"/>
              </a:rPr>
              <a:t>Pancreatic Cancer (C25): 2010-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07720" y="600120"/>
            <a:ext cx="64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Net Survival up to Ten Years after Diagnosis, Adults (Aged 15-99), England and W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image"/>
          <p:cNvPicPr/>
          <p:nvPr/>
        </p:nvPicPr>
        <p:blipFill>
          <a:blip r:embed="rId1"/>
          <a:stretch/>
        </p:blipFill>
        <p:spPr>
          <a:xfrm>
            <a:off x="1488960" y="887400"/>
            <a:ext cx="6191280" cy="400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36240" y="4903920"/>
            <a:ext cx="811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ease include the citation provided in our Frequently Asked Questions when reproducing this chart: http://info.cancerresearchuk.org/cancerstats/faqs/#H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9320" y="503568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ed by Cancer Research 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6800" y="516744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iginal data sourc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40920" y="5300640"/>
            <a:ext cx="802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vival estimates were provided on request by the Cancer Research UK Cancer Survival Group at the London School of Hygiene and Tropical Medicin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58560" y="5432400"/>
            <a:ext cx="263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lshtm.ac.uk/eph/ncde/cancersurvival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mage"/>
          <p:cNvPicPr/>
          <p:nvPr/>
        </p:nvPicPr>
        <p:blipFill>
          <a:blip r:embed="rId2"/>
          <a:stretch/>
        </p:blipFill>
        <p:spPr>
          <a:xfrm>
            <a:off x="495360" y="5675400"/>
            <a:ext cx="21463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4:27:27Z</dcterms:created>
  <dc:creator/>
  <dc:description/>
  <dc:language>en-US</dc:language>
  <cp:lastModifiedBy>svcsrm_obi</cp:lastModifiedBy>
  <dcterms:modified xsi:type="dcterms:W3CDTF">2014-05-15T14:27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