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E45-9381-47E7-824E-6A9266FE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5CB-F95D-41BE-B1F0-30F9ABC0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770-00CB-4B23-9ADF-03BF4D98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0EC-EEB5-44ED-AEEE-7732F023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FB3-59FD-43E8-9F24-8C2C9FCF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547-89DB-4A1B-ACAA-EEA57D7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D65-7C9E-4441-BD3B-932AAEE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7EE-5DFE-4698-8749-6CA903F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AF0-8082-4BFF-9BA5-4D7EF7A5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1E1-624D-4910-BE2B-6671820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B64-3453-4F72-8C21-98809E9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687-C042-42D7-9808-9F2BD446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F49-826D-4730-8B0D-81A17BD4196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-126000" y="407880"/>
            <a:ext cx="29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Pancreatic Cancer (C25): 2009-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07440" y="600120"/>
            <a:ext cx="30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Five-Year Net Survival by Age,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age"/>
          <p:cNvPicPr/>
          <p:nvPr/>
        </p:nvPicPr>
        <p:blipFill>
          <a:blip r:embed="rId1"/>
          <a:stretch/>
        </p:blipFill>
        <p:spPr>
          <a:xfrm>
            <a:off x="1488960" y="950760"/>
            <a:ext cx="6191280" cy="400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61080" y="4967280"/>
            <a:ext cx="164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Source: cruk.org/cancerst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52080" y="5099040"/>
            <a:ext cx="473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You are welcome to reuse this Cancer Research UK statistics content for your own wor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53160" y="5230800"/>
            <a:ext cx="42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Credit us as authors by referencing Cancer Research UK as the primary sourc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52440" y="5364000"/>
            <a:ext cx="45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Suggested style: Cancer Research UK, full URL of the page, Accessed [month] [year]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image"/>
          <p:cNvPicPr/>
          <p:nvPr/>
        </p:nvPicPr>
        <p:blipFill>
          <a:blip r:embed="rId2"/>
          <a:stretch/>
        </p:blipFill>
        <p:spPr>
          <a:xfrm>
            <a:off x="495360" y="5607000"/>
            <a:ext cx="2146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10:50:49Z</dcterms:created>
  <dc:creator/>
  <dc:description/>
  <dc:language>en-US</dc:language>
  <cp:lastModifiedBy>svcsrm_obi</cp:lastModifiedBy>
  <dcterms:modified xsi:type="dcterms:W3CDTF">2015-12-21T10:50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