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A8C3-7699-4EB0-AC1A-DD657054A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905184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493160"/>
            <a:ext cx="905184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A1B0-FDDC-47F6-8247-543EB5C56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1880" y="18129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4931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1880" y="44931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ED53-0F9D-4740-A8F6-94239E123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29145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4000" y="1812960"/>
            <a:ext cx="29145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4720" y="1812960"/>
            <a:ext cx="29145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493160"/>
            <a:ext cx="29145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4000" y="4493160"/>
            <a:ext cx="29145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4720" y="4493160"/>
            <a:ext cx="29145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A154-6C13-4228-9E09-191DFF541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812960"/>
            <a:ext cx="9051840" cy="51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4E53-DB51-4451-843E-584AD23A0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9051840" cy="513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7DCF-87AA-43F2-BBF3-13BD2FD00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4417200" cy="513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1880" y="1812960"/>
            <a:ext cx="4417200" cy="513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6054-0B36-4E6A-A516-D45CB9CE4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23BB-2311-45EB-977D-80263EA2B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10680"/>
            <a:ext cx="90518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B921-A778-4438-B123-033D1A356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880" y="1812960"/>
            <a:ext cx="4417200" cy="513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4931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FDCC-07CF-429D-9C0A-A8404891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4417200" cy="513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880" y="18129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1880" y="44931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1F8E-1628-42D5-8D54-73C6855F5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1880" y="18129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493160"/>
            <a:ext cx="905184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16B0-D52E-45F5-B667-F0D039CF1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812960"/>
            <a:ext cx="9051840" cy="513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7078320"/>
            <a:ext cx="2346120" cy="53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78320"/>
            <a:ext cx="3184560" cy="53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8640" y="7078320"/>
            <a:ext cx="2346120" cy="53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6E496-5537-4ECE-ABA4-81FDCEBC6CE9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_x005F_x0000_s0"/>
          <p:cNvSpPr/>
          <p:nvPr/>
        </p:nvSpPr>
        <p:spPr>
          <a:xfrm>
            <a:off x="325800" y="407880"/>
            <a:ext cx="4030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ec008c"/>
                </a:solidFill>
                <a:latin typeface="Arial"/>
              </a:rPr>
              <a:t>Ovarian Cancer (C56-C57.7): 31st December 200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29"/>
          <p:cNvSpPr/>
          <p:nvPr/>
        </p:nvSpPr>
        <p:spPr>
          <a:xfrm>
            <a:off x="318240" y="600120"/>
            <a:ext cx="363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e008b"/>
                </a:solidFill>
                <a:latin typeface="Arial"/>
              </a:rPr>
              <a:t>One, Five and Ten Year Cancer Prevalence, U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8"/>
          <p:cNvSpPr/>
          <p:nvPr/>
        </p:nvSpPr>
        <p:spPr>
          <a:xfrm>
            <a:off x="2286000" y="976320"/>
            <a:ext cx="703440" cy="198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7"/>
          <p:cNvSpPr/>
          <p:nvPr/>
        </p:nvSpPr>
        <p:spPr>
          <a:xfrm>
            <a:off x="2975040" y="976320"/>
            <a:ext cx="28440" cy="212760"/>
          </a:xfrm>
          <a:prstGeom prst="rect">
            <a:avLst/>
          </a:prstGeom>
          <a:solidFill>
            <a:srgbClr val="c8c9c7"/>
          </a:solidFill>
          <a:ln w="9360">
            <a:solidFill>
              <a:srgbClr val="c8c9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6"/>
          <p:cNvSpPr/>
          <p:nvPr/>
        </p:nvSpPr>
        <p:spPr>
          <a:xfrm>
            <a:off x="2286000" y="1162080"/>
            <a:ext cx="717480" cy="28440"/>
          </a:xfrm>
          <a:prstGeom prst="rect">
            <a:avLst/>
          </a:prstGeom>
          <a:solidFill>
            <a:srgbClr val="c8c9c7"/>
          </a:solidFill>
          <a:ln w="9360">
            <a:solidFill>
              <a:srgbClr val="c8c9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5"/>
          <p:cNvSpPr/>
          <p:nvPr/>
        </p:nvSpPr>
        <p:spPr>
          <a:xfrm>
            <a:off x="3003480" y="976320"/>
            <a:ext cx="1390680" cy="198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24"/>
          <p:cNvSpPr/>
          <p:nvPr/>
        </p:nvSpPr>
        <p:spPr>
          <a:xfrm>
            <a:off x="3069000" y="947880"/>
            <a:ext cx="125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f6f6f"/>
                </a:solidFill>
                <a:latin typeface="Arial"/>
              </a:rPr>
              <a:t>1 Year Preval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23"/>
          <p:cNvSpPr/>
          <p:nvPr/>
        </p:nvSpPr>
        <p:spPr>
          <a:xfrm>
            <a:off x="3003480" y="1162080"/>
            <a:ext cx="1390680" cy="28440"/>
          </a:xfrm>
          <a:prstGeom prst="rect">
            <a:avLst/>
          </a:prstGeom>
          <a:solidFill>
            <a:srgbClr val="c8c9c7"/>
          </a:solidFill>
          <a:ln w="9360">
            <a:solidFill>
              <a:srgbClr val="c8c9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2"/>
          <p:cNvSpPr/>
          <p:nvPr/>
        </p:nvSpPr>
        <p:spPr>
          <a:xfrm>
            <a:off x="4394160" y="976320"/>
            <a:ext cx="1390680" cy="198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1"/>
          <p:cNvSpPr/>
          <p:nvPr/>
        </p:nvSpPr>
        <p:spPr>
          <a:xfrm>
            <a:off x="4459680" y="947880"/>
            <a:ext cx="125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f6f6f"/>
                </a:solidFill>
                <a:latin typeface="Arial"/>
              </a:rPr>
              <a:t>5 Year Preval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4394160" y="1162080"/>
            <a:ext cx="1390680" cy="28440"/>
          </a:xfrm>
          <a:prstGeom prst="rect">
            <a:avLst/>
          </a:prstGeom>
          <a:solidFill>
            <a:srgbClr val="c8c9c7"/>
          </a:solidFill>
          <a:ln w="9360">
            <a:solidFill>
              <a:srgbClr val="c8c9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5784840" y="976320"/>
            <a:ext cx="1390680" cy="198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8"/>
          <p:cNvSpPr/>
          <p:nvPr/>
        </p:nvSpPr>
        <p:spPr>
          <a:xfrm>
            <a:off x="5816160" y="947880"/>
            <a:ext cx="132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f6f6f"/>
                </a:solidFill>
                <a:latin typeface="Arial"/>
              </a:rPr>
              <a:t>10 Year Preval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7"/>
          <p:cNvSpPr/>
          <p:nvPr/>
        </p:nvSpPr>
        <p:spPr>
          <a:xfrm>
            <a:off x="5784840" y="1162080"/>
            <a:ext cx="1390680" cy="28440"/>
          </a:xfrm>
          <a:prstGeom prst="rect">
            <a:avLst/>
          </a:prstGeom>
          <a:solidFill>
            <a:srgbClr val="c8c9c7"/>
          </a:solidFill>
          <a:ln w="9360">
            <a:solidFill>
              <a:srgbClr val="c8c9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6"/>
          <p:cNvSpPr/>
          <p:nvPr/>
        </p:nvSpPr>
        <p:spPr>
          <a:xfrm>
            <a:off x="2286000" y="1190520"/>
            <a:ext cx="703440" cy="184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5"/>
          <p:cNvSpPr/>
          <p:nvPr/>
        </p:nvSpPr>
        <p:spPr>
          <a:xfrm>
            <a:off x="2218320" y="116064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f6f6f"/>
                </a:solidFill>
                <a:latin typeface="Arial"/>
              </a:rPr>
              <a:t>Fema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2975040" y="1190520"/>
            <a:ext cx="28440" cy="184320"/>
          </a:xfrm>
          <a:prstGeom prst="rect">
            <a:avLst/>
          </a:prstGeom>
          <a:solidFill>
            <a:srgbClr val="c8c9c7"/>
          </a:solidFill>
          <a:ln w="9360">
            <a:solidFill>
              <a:srgbClr val="c8c9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3"/>
          <p:cNvSpPr/>
          <p:nvPr/>
        </p:nvSpPr>
        <p:spPr>
          <a:xfrm>
            <a:off x="3003480" y="1190520"/>
            <a:ext cx="1390680" cy="184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3968280" y="116064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4,5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1"/>
          <p:cNvSpPr/>
          <p:nvPr/>
        </p:nvSpPr>
        <p:spPr>
          <a:xfrm>
            <a:off x="4394160" y="1190520"/>
            <a:ext cx="1390680" cy="184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5288040" y="116064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15,79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9"/>
          <p:cNvSpPr/>
          <p:nvPr/>
        </p:nvSpPr>
        <p:spPr>
          <a:xfrm>
            <a:off x="5784840" y="1190520"/>
            <a:ext cx="1390680" cy="184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6678720" y="116064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25,06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335160" y="1415880"/>
            <a:ext cx="8750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f6f6f"/>
                </a:solidFill>
                <a:latin typeface="Arial"/>
              </a:rPr>
              <a:t>Please include the ciation provided in our Frequently Asked Quesitons when reproducing this chart: http://www.cancerresearchuk.org/cancer-info/cancerstats/faqs/#Ho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345960" y="1547640"/>
            <a:ext cx="6110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f6f6f"/>
                </a:solidFill>
                <a:latin typeface="Arial"/>
              </a:rPr>
              <a:t>Prepared by Cancer Research UK - http://www.cancerresearchuk.org/cancer-info/cancerstats/incidence/prevalence/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316800" y="1679400"/>
            <a:ext cx="1392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6f6f6f"/>
                </a:solidFill>
                <a:latin typeface="Arial"/>
              </a:rPr>
              <a:t>Original data sources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346680" y="1812960"/>
            <a:ext cx="6154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f6f6f"/>
                </a:solidFill>
                <a:latin typeface="Arial"/>
              </a:rPr>
              <a:t>National Cancer Intelligence Network (2010), One, five and ten-year cancer prevalence by cancer network, UK, 2006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356400" y="1944720"/>
            <a:ext cx="2997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f6f6f"/>
                </a:solidFill>
                <a:latin typeface="Arial"/>
              </a:rPr>
              <a:t>http://www.ncin.org.uk/publications/reports/default.asp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image"/>
          <p:cNvPicPr/>
          <p:nvPr/>
        </p:nvPicPr>
        <p:blipFill>
          <a:blip r:embed="rId1"/>
          <a:stretch/>
        </p:blipFill>
        <p:spPr>
          <a:xfrm>
            <a:off x="495360" y="2187720"/>
            <a:ext cx="2146320" cy="102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12T16:22:49Z</dcterms:created>
  <dc:creator/>
  <dc:description/>
  <dc:language>en-US</dc:language>
  <cp:lastModifiedBy>svcsrm_obi</cp:lastModifiedBy>
  <dcterms:modified xsi:type="dcterms:W3CDTF">2013-07-12T16:22:50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